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camera.wav" ContentType="audio/x-wav"/>
  <Override PartName="/ppt/media/type.wav" ContentType="audio/x-wav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813-C327-4833-8093-FDDB199F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E48-8B9C-4A4C-81D4-2162961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60C10-E845-4659-8500-FAB3345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D16E-30F2-4B8A-800C-AD4647B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3976-625B-40A4-B3A9-3EF66A0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6F88E-785C-4907-8207-E2C888D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90CC-7261-4E02-BA18-B1B0D5F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65F4D-3B12-4D43-9F4D-0CD1C2E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36581-BC56-4B79-A31C-76F48C96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60FE0-0709-4A44-B30D-6438BA59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012C-BB46-4A11-90B1-3E623389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369B7-52C0-4A22-BED7-241A8D08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23A-5293-489B-9C7C-56A3F5B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BFE9D-4706-441E-940A-E017DAB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CB82C-F5B3-4D3D-8471-CEAF7B21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94566-14E4-4D7B-B0CE-FC6EB124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E71DE-893D-497D-9F7B-9D582EF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E22F4-3110-4369-AA12-40F659C1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2F66B-DA75-4533-ADDD-41D2485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4CCEB-6AA7-4FDF-8077-5C4F725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90DA-16CE-414D-96D1-76B5689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233C4-7935-4E82-96F5-4B6E44A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C5A11-4096-44E8-BE98-7BE64667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D16-550C-44DA-8801-551B8522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B6AAA-56EE-4BCB-9D10-CB46B5E5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B9BD3-23A8-4F0C-B527-F7C4CA9D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537DD-FF83-4E51-987E-9ED7E5E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D93E-3E15-4E88-9867-6AE9FAB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B4BD0-9A01-42AD-A26C-4C9D948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F9EE4-2CD6-43FD-997A-F2607E7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7FD8-6CC4-4E1A-9A58-641B999D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375A1-2DB4-4274-8D26-51ECE3F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2D55-5137-44CF-9F13-A14E90D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A2C19-BC70-4464-A282-5BD40D6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539-40C3-48B1-9EAF-846EBC9B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06B5-B16F-42BE-B7F3-BD264F84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F4B51-D177-40DB-9DCB-33BD4E1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C9056-7217-4870-ABEA-E6C1ECF5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10A8B-70E2-433D-B0AB-D8FFAEA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4EC8D-2ED4-47F1-A518-C66A69C5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B501C-9B7D-4D4B-AAEF-16BF43F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F3FAB-7E5F-44C2-BE7E-2A04C89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DF6FA-231C-460F-99C0-A6BDC16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7F733-7E33-476A-ADC2-B9B10B5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66621-88DF-4D02-B251-EEBB8D99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659B-29A5-4B74-9955-D5BFE1A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DC5E-7A43-49AB-A4AB-D991BA4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2FEE2-86E0-4DED-9769-83F8E32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35780-D05B-496D-B5B7-ED6B989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1A137-BC2A-4EEC-A92A-6CD41886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59951-6009-4BAE-93AA-AA6DD224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36C-C18B-4062-8E37-22BCEC3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F5A0-4308-40B7-A83A-127DCE0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2A8-F1F1-42DF-A378-1317776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ADCF-863B-4593-81A4-8EFDE4D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882E-E517-4590-89F8-AA27D79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36D-8057-4FA8-B680-6F017554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2E69-EE63-4159-B0AB-965E3C2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23E8-28B4-49F3-A771-6A08679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88B7-8FA5-4CDE-A309-0FF656D4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03B-E5F2-49B3-BF97-0E0CF232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7B9-0144-448A-95E0-B147F596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5B94-E1A2-45E7-95D7-AF7204D0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A3F9-74A5-43B1-A472-164E36E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2922-13BE-4B4F-AF2E-8816DF0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6E66-3037-423B-9D8A-719F716A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E092-96E1-4C82-A4FB-9B17CFF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697-F789-4B75-992D-876A4C6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7666-2748-4B25-BC5E-6C08951E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1BEC-F7E1-4EF0-992D-9F16B9F7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19B4-C64A-4405-A520-F3F49F24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D552-5476-40C4-B03B-F91CC9B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2918-F4C3-41B5-873B-041AF08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B7E9-4120-4A44-B17F-263882D1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CEC7-98A8-4811-ACD6-4D4E7630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8A62-C7CF-4030-ADA0-B83F4E0C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88C8-DCBD-4353-A086-C33B1F09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EC1B-F36D-4FB5-B676-CED1495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B92-39C9-4F05-BCE0-A944C49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9E02-FFA6-4615-975D-FC03C05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D607-E80C-46FF-9F75-979465D2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969F-D321-4E2C-8C06-E979A249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2AA7-08DE-4234-9401-21B99B6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A795-D587-4201-9635-09A8901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8114-4C5E-4B9E-87B2-7D26AD7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B091-7AAB-495C-85F7-F270807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50E3-2582-48E3-BCBC-02D598A5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B97C-B20F-41BB-A75E-95EC9FC2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71D0-0002-4E0F-9B5C-927A311F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C60-07CF-4430-95C7-5DBE52F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0AE8-CF80-4794-9307-4A65EFF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1782-FB17-4D13-AB88-A934FF08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9F8E-E5D1-4A37-B26F-9BA119B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7EC3-9B99-4BC1-AC02-09478C8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3106-853A-4A69-BDCB-DB61614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F7B4-10BC-4F2E-9944-63DF4C9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245F-DF10-4CD5-A923-8A3A2BE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A742-6273-4D3D-87A9-7813485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9A15-91A3-4FD6-B5E7-643FE3D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585C-4777-4410-A0CD-22905B20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C0C-38E7-4E73-B0D1-25E212B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37E3-368B-4637-B81C-9F48C8E2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AF72-C304-4A23-A5CC-93F29BCD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F187-90B8-4B35-9060-86028BC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5A5A-535D-441D-AE0B-E146C06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B03C-699F-48C2-A93E-84F8BEB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B26E-10A6-45DA-ABDB-4C821C3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0B7E-988A-458A-AB3E-DDBDDFCA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184C-BB30-4163-BA6D-A82AB81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0160-8173-42D6-9353-05F87B55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9BA4-A517-4A31-A958-8C88980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8F9-C6C2-4CA3-988F-BEE20DB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5225-28C2-4C11-B28D-143AC2D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2E7E-D25B-4939-A15D-51188D7F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14B13-DF7F-43ED-9EEF-C4A7FEDE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4670-1997-46EA-A849-9745DB5A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9C5C-0027-4D48-923E-8C128979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C8915-907E-4B0D-B95C-B64B54A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7E7D7-A675-431F-8610-64E4F82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AB0D8-C0A0-4B62-851F-659683B5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91B6-589C-440E-93FA-B73179A8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545E9-5D16-435E-9C3E-B681D30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7E5-D916-4DAA-98B5-11B47D03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4F41-97EF-4F87-8EA7-8756A9B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9316-F75E-421B-87FC-6663346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6AE7-3F85-4A58-B4F7-B1116C3E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5326-3B5A-4275-8F95-7D2C3FB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3049-0232-4E03-84B1-253BF47B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39AD-F1DC-4356-8F72-B74E1B9D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2389-A5F0-4C4F-92F1-A5104115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6218-FB9D-4AAD-AD66-E2AFBF1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78986-28DD-4E90-AE3C-33FFAA0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A683-05FE-4652-8B4D-384AA0E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04B-C43C-4824-873C-BA15BB0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AF32-7C4F-4F0D-BFA2-760B930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70D6B-29BC-4A45-AF62-B35950C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6C9A0-E6D3-44AC-9D45-FA7D0D9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7182-AD09-4D2C-ADD8-BC4D800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63FCD-C1F8-4E81-9D24-E2C77FDB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158D-0742-4360-AF58-1AD6BDD9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0BA06-C4B0-4FD6-AFA4-3C474C94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89A2-4341-4836-8452-ADA1BC4B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FA2EB-2CB9-457D-B043-EB8A9C2D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48392-953A-40EE-8462-924752C5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316-373F-4BBD-A23A-51C9BA65514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3EC-B8C7-4DCF-BD17-C7E39B4C83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AE8-B661-45A6-9B12-16F17023F0A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C43-0FB4-49A2-AA60-CFD5452365C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31B8-82DB-4029-B4CD-0EC597C54EE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F4DB-B36B-43AA-AC7E-39A01526A7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66AC-82A5-4795-87B9-C7BA35A00D7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912-E7AB-4890-869B-8E49BA6BEC7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8E1-D308-4291-AB55-FD3EF228FC15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737B-67F5-49C0-9BED-420F267CF8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031D-505F-4AE4-BB42-73F11FB7EC8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D48-9997-427D-8B8E-A8388D594B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A8C7-AF07-4B6C-96BB-C1C3CFADEB1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E48-1AD4-4B63-8073-52BF1D16E3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38E5-7892-4566-B7B3-A45982B6F46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4A0F-91A2-474E-A899-4397FA10A0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535-2E61-49BB-BE95-967C4518AFD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22A-0720-4575-89E6-F718A69046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71C-F23D-4491-9EAA-5BA132B86B2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E7F-16FE-4A70-A20D-62E61DA327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3D0-7813-4BA4-98B7-BD01C2C58CD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DDD-9FB1-4B07-98B8-4686899A93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8C3F-77DC-4A40-A08B-EDF94AA4EF5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2D5-8BD5-4864-BAE5-BCD6853A19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11"/>
          <p:cNvSpPr txBox="1"/>
          <p:nvPr/>
        </p:nvSpPr>
        <p:spPr>
          <a:xfrm rot="5400000">
            <a:off x="5328720" y="260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3366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9360">
                <a:solidFill>
                  <a:srgbClr val="3366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uFillTx/>
              <a:latin typeface="黑体"/>
              <a:ea typeface="黑体"/>
            </a:endParaRPr>
          </a:p>
        </p:txBody>
      </p:sp>
      <p:pic>
        <p:nvPicPr>
          <p:cNvPr id="507" name="Picture 4" descr="63061_1284098510AXVU"/>
          <p:cNvPicPr/>
          <p:nvPr/>
        </p:nvPicPr>
        <p:blipFill>
          <a:blip r:embed="rId1"/>
          <a:srcRect l="0" t="0" r="0" b="5902"/>
          <a:stretch/>
        </p:blipFill>
        <p:spPr>
          <a:xfrm>
            <a:off x="755640" y="189000"/>
            <a:ext cx="5076720" cy="6453000"/>
          </a:xfrm>
          <a:prstGeom prst="rect">
            <a:avLst/>
          </a:prstGeom>
          <a:ln w="0">
            <a:noFill/>
          </a:ln>
        </p:spPr>
      </p:pic>
      <p:pic>
        <p:nvPicPr>
          <p:cNvPr id="508" name="月亮船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1956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C:\Users\apple\Desktop\新建文件夹 (3)\slide0024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"/>
          <p:cNvSpPr/>
          <p:nvPr/>
        </p:nvSpPr>
        <p:spPr>
          <a:xfrm>
            <a:off x="179280" y="1557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阿妈，我们到田埂上去吧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684360" y="1484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果园那边，飘来果子的甜香。是雪梨，还是火把梨？都有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826920" y="220500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826920" y="285264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708360" y="242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设问句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403280" y="4941720"/>
            <a:ext cx="6120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2340000" y="4868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4932360" y="4797000"/>
            <a:ext cx="122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755640" y="32846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现在的稻谷就要成熟了，稻田像一片月光镀亮的银毯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2268360" y="5660640"/>
            <a:ext cx="122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5003640" y="5660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>
            <a:off x="900000" y="400536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Line 14"/>
          <p:cNvSpPr/>
          <p:nvPr/>
        </p:nvSpPr>
        <p:spPr>
          <a:xfrm>
            <a:off x="900000" y="4653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2484360" y="422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比喻句，生动形象地写出月光下稻田的景象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2008105233515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539640" y="26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稻穗低垂着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1835280" y="141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46656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619280" y="1486080"/>
            <a:ext cx="216000" cy="446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763640" y="234936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27716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69236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田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2771640" y="3860640"/>
            <a:ext cx="216000" cy="1946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6520"/>
              <a:gd name="textAreaBottom" fmla="*/ 1896120 h 194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291636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291636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291636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291636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2916360" y="5373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        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91636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2916360" y="422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843280" y="4976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539640" y="393372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美丽的月亮牵着那些闪闪烁烁的小星星，好像也在天上走着，走着</a:t>
            </a: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月光曲.mp3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31598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133200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7928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260360" y="1486080"/>
            <a:ext cx="216000" cy="50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1040 h 5040000"/>
              <a:gd name="textAreaBottom" fmla="*/ 4908960 h 50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1332000" y="234936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AutoShape 8"/>
          <p:cNvSpPr/>
          <p:nvPr/>
        </p:nvSpPr>
        <p:spPr>
          <a:xfrm>
            <a:off x="241128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133200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2411280" y="3860640"/>
            <a:ext cx="216000" cy="20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248292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255600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255600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255600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2627280" y="5373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16"/>
          <p:cNvSpPr/>
          <p:nvPr/>
        </p:nvSpPr>
        <p:spPr>
          <a:xfrm>
            <a:off x="255600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2556000" y="4221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2556000" y="4976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1476360" y="6093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美的夜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7237440" y="1339920"/>
            <a:ext cx="287280" cy="5184720"/>
          </a:xfrm>
          <a:custGeom>
            <a:avLst/>
            <a:gdLst>
              <a:gd name="textAreaLeft" fmla="*/ 0 w 287280"/>
              <a:gd name="textAreaRight" fmla="*/ 103680 w 2872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7453440" y="34704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美丽景色浓浓亲情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755640" y="1557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课文为什么反复写“啊，我和阿妈走月亮”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227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答：这样反复地写，充分表达了“我”和阿妈走月亮时的幸福和喜悦之情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共同探究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826920" y="3502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为什么说这是一个“多美的夜晚”？选择喜欢的段落背诵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3" name="月光曲.mp3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828720" y="4726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如果你和爸爸或妈妈走月亮，你想去哪里走月亮，动动你的五官，说说你在走月亮时看到什么？听到什么？闻到什么？想到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331598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感”，又叫“移觉”，就是在描述客观事物时，用形象的语言使感觉转移，将人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、视觉、嗅觉、味觉、触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不同感觉互相沟通、交错，彼此挪移转换，将本来表示甲感觉的词语移用来表示乙感觉，使意象更为活泼、新奇的一种修辞手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如，“你笑得很甜”，这就是通感。“甜”是用来形容味道的，这里却用形容味觉的词来形容视觉，就是通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比如：微风过处，送来缕缕清香，仿佛远处高楼上渺茫的歌声似的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清香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嗅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歌声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作者将两种感觉互通，即为通感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8360" y="1125360"/>
            <a:ext cx="4753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吴然，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94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年生，云南宣威人。中国作家协会会员、春城晚报高级编辑。编辑之余，为少年儿童写作散文。已出版散文、散文诗集《歌溪》、《一碗水》、《我的小马》（台湾版）、《小鸟在歌唱》、《天使的花房》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多部。曾获中国作协第二、五届全国优秀儿童文学奖，以及宋庆龄儿童文学奖、冰心儿童图书奖等多项。作品选入上百种选本，其中《民族小学》、《新年礼物》、《珍珠泉》、《杨梅会》等被编入九年义务教育小学语文教科书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0" name="Picture 4" descr="8c511fe9ef92b07cb90e2d7c"/>
          <p:cNvPicPr/>
          <p:nvPr/>
        </p:nvPicPr>
        <p:blipFill>
          <a:blip r:embed="rId1"/>
          <a:stretch/>
        </p:blipFill>
        <p:spPr>
          <a:xfrm>
            <a:off x="5276880" y="1700280"/>
            <a:ext cx="3867120" cy="43210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15"/>
          <p:cNvSpPr txBox="1"/>
          <p:nvPr/>
        </p:nvSpPr>
        <p:spPr>
          <a:xfrm>
            <a:off x="2340000" y="333360"/>
            <a:ext cx="26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gradFill rotWithShape="0">
                  <a:gsLst>
                    <a:gs pos="0">
                      <a:srgbClr val="0066ff">
                        <a:alpha val="50196"/>
                      </a:srgbClr>
                    </a:gs>
                    <a:gs pos="100000">
                      <a:srgbClr val="002f7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名人堂</a:t>
            </a:r>
            <a:endParaRPr b="1" i="1" lang="en-US" sz="2400" spc="1" strike="noStrike" u="sng">
              <a:ln w="12600">
                <a:solidFill>
                  <a:srgbClr val="3333cc"/>
                </a:solidFill>
                <a:round/>
              </a:ln>
              <a:gradFill rotWithShape="0">
                <a:gsLst>
                  <a:gs pos="0">
                    <a:srgbClr val="0066ff">
                      <a:alpha val="50196"/>
                    </a:srgbClr>
                  </a:gs>
                  <a:gs pos="100000">
                    <a:srgbClr val="002f7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5148360" y="765000"/>
            <a:ext cx="208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——</a:t>
            </a: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吴然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95280" y="1700280"/>
            <a:ext cx="417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《走月亮》，作者：吴然。这本书分为“大理石歌”“闹春牛”“小巷深处”“月光的香味”四小辑。以神奇、美丽、富饶的云南的山和水、人和景为主要描述对象，从孩子的心灵感受出发，勾画出一幅幅活跃、灵动、充满纯真气息的美丽动人的乡土的篇章。</a:t>
            </a:r>
            <a:br>
              <a:rPr sz="2400"/>
            </a:b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 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4" descr="走月亮书"/>
          <p:cNvPicPr/>
          <p:nvPr/>
        </p:nvPicPr>
        <p:blipFill>
          <a:blip r:embed="rId1"/>
          <a:stretch/>
        </p:blipFill>
        <p:spPr>
          <a:xfrm>
            <a:off x="5003640" y="620640"/>
            <a:ext cx="37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C:\Users\apple\Desktop\新建文件夹 (3)\slide0035_image01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151128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第二大湖泊：洱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C:\Users\apple\Desktop\新建文件夹 (3)\slide0039_image016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点苍山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练习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55640" y="177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看拼音，写词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684360" y="2637000"/>
            <a:ext cx="8208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yu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p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    r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ó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é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ā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s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ǒ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    x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  )    (           )     (             )    (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 t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ù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y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h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)       (      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巩固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圆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270036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柔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826920" y="2852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白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500720" y="171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牵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44364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风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2627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银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450072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淘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637236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坑坑洼洼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826920" y="3933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浇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2700360" y="387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蚕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50072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稻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651672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嗅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闪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450072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泼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2771640" y="501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洱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6588000" y="501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沟水汩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651672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xi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684360" y="1484280"/>
            <a:ext cx="8135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4360" y="306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排比句的作用：不仅使描写细腻，形象生动，更增强了韵律感，使语言富有气势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826920" y="2217600"/>
            <a:ext cx="7561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826920" y="2852640"/>
            <a:ext cx="640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723600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排比句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900000" y="436572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，照亮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照亮了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1763640" y="5373360"/>
            <a:ext cx="237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可爱的池塘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292720" y="537336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飘香的果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20070901010448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溪水潺潺声.mp3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1504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7:27Z</dcterms:created>
  <dc:creator/>
  <dc:description/>
  <dc:language>en-US</dc:language>
  <cp:lastModifiedBy>万润仪器贸易公司</cp:lastModifiedBy>
  <dcterms:modified xsi:type="dcterms:W3CDTF">2020-08-24T03:32:3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